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87800" cy="44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DF8636A-ABDB-4AD3-A254-F4FBDB5C0446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7693C3F-EB9C-4B9B-96C2-FAF7850B83E6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ILDING A SUSTAINABL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Clemens walks on stage, lapel microphone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Laptop set up on stage lectern, slides controlled by gallery – to be tested at rehearsal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enQ-Siemens, our new brand has been launched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ast meets West, Square meets Round, Design meets Technology.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It is our belief that opposites can create new idea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ood afternoon, Ladies and Gentlemen, my name is Clemens Joos, CEO of BenQ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t upon the strong heritage of two companies: BenQ and Siemens - BenQ Mobile i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reating the foundatio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stainable futur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7; CJJ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2A691DAA-AF4D-483D-B287-D982DF7AD906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320" y="4211640"/>
            <a:ext cx="845820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TPM alignment PH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409680" y="5095800"/>
            <a:ext cx="45720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Taipei March 23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4680" y="1576440"/>
            <a:ext cx="342108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400" y="26208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PM responsibilities and Set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9920" y="1776240"/>
            <a:ext cx="0" cy="315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60440" y="932040"/>
            <a:ext cx="8120160" cy="1086840"/>
            <a:chOff x="460440" y="932040"/>
            <a:chExt cx="8120160" cy="1086840"/>
          </a:xfrm>
        </p:grpSpPr>
        <p:sp>
          <p:nvSpPr>
            <p:cNvPr id="54" name=""/>
            <p:cNvSpPr/>
            <p:nvPr/>
          </p:nvSpPr>
          <p:spPr>
            <a:xfrm>
              <a:off x="460440" y="932040"/>
              <a:ext cx="8104320" cy="108540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460440" y="933480"/>
              <a:ext cx="8120160" cy="1085400"/>
              <a:chOff x="460440" y="933480"/>
              <a:chExt cx="8120160" cy="1085400"/>
            </a:xfrm>
          </p:grpSpPr>
          <p:sp>
            <p:nvSpPr>
              <p:cNvPr id="56" name=""/>
              <p:cNvSpPr/>
              <p:nvPr/>
            </p:nvSpPr>
            <p:spPr>
              <a:xfrm>
                <a:off x="460440" y="933480"/>
                <a:ext cx="1717560" cy="1085400"/>
              </a:xfrm>
              <a:custGeom>
                <a:avLst/>
                <a:gdLst>
                  <a:gd name="textAreaLeft" fmla="*/ 0 w 1717560"/>
                  <a:gd name="textAreaRight" fmla="*/ 1717920 w 1717560"/>
                  <a:gd name="textAreaTop" fmla="*/ 0 h 1085400"/>
                  <a:gd name="textAreaBottom" fmla="*/ 1085760 h 1085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8076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</a:rPr>
                  <a:t>BMG PH TPM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</a:rPr>
                  <a:t>Technical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</a:rPr>
                  <a:t>Product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Minion"/>
                  </a:rPr>
                  <a:t>Manage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2760" y="963000"/>
                <a:ext cx="6297840" cy="10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Minion"/>
                  </a:rPr>
                  <a:t>+ Driving product realization across all Product House func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Minion"/>
                  </a:rPr>
                  <a:t>+ SPEED and COST focus (T2M, T2V as well as product cost, quality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Minion"/>
                  </a:rPr>
                  <a:t>+ Project management excelle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79400"/>
                    <a:tab algn="l" pos="1558800"/>
                    <a:tab algn="l" pos="2338560"/>
                    <a:tab algn="l" pos="3117960"/>
                    <a:tab algn="l" pos="3897360"/>
                    <a:tab algn="l" pos="4676760"/>
                    <a:tab algn="l" pos="5456160"/>
                    <a:tab algn="l" pos="6235560"/>
                    <a:tab algn="l" pos="7015320"/>
                    <a:tab algn="l" pos="7794720"/>
                    <a:tab algn="l" pos="8574120"/>
                    <a:tab algn="l" pos="9353520"/>
                    <a:tab algn="l" pos="10132920"/>
                    <a:tab algn="l" pos="109123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Minion"/>
                  </a:rPr>
                  <a:t>+ End2end responsibility – from cradle to gra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"/>
          <p:cNvSpPr/>
          <p:nvPr/>
        </p:nvSpPr>
        <p:spPr>
          <a:xfrm>
            <a:off x="8033040" y="138276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9200" y="2475000"/>
            <a:ext cx="7777080" cy="38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rganization by sit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1400" y="1206360"/>
            <a:ext cx="88614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Management Meeting structur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PC biweekly regiona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ilestones (M0/C1; M1/C2; S25/C4; DS/C5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Achievements, items, measures per product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BOM, CoC, licenses, development cos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Estimated return rate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PBR biweekly globa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ilestones (M0/C1; M1/C2; M2/C3; DS/C5), Q-Gat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Achievements, items, measures per product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HK, price, sales margin, profit contribution, 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volume, deviation against baselin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arketing plans</a:t>
            </a:r>
            <a:br>
              <a:rPr sz="1800"/>
            </a:b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TPM alignment meeting global biannuall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KPI’s -1-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3320" y="942840"/>
            <a:ext cx="8964360" cy="48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KPI’s -2-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2022480"/>
            <a:ext cx="88646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Decision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400"/>
              </a:spcBef>
              <a:spcAft>
                <a:spcPts val="400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All sites have a similar TPM organization however, not each of the functionality needs to be implemented according to local need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5000"/>
              </a:lnSpc>
              <a:spcBef>
                <a:spcPts val="400"/>
              </a:spcBef>
              <a:spcAft>
                <a:spcPts val="400"/>
              </a:spcAft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Alignment of TPM Com: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lead variant to be created at origin of R&amp;D loca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regional focus for VPM and GPM: 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-&gt; resources are assigned according to sales regions not according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    to R&amp;D location i.e. variants for a Beijing product sold in WE is 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    created in Europe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Current assignment of regions to sites is kept until further notice: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EU: </a:t>
            </a: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WE, EE, LAM, MEA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Asia: </a:t>
            </a: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APAC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Current split is not balanced in terms of effort (90% effort today in Europe), re-discussion on a quarterly basis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Country split VPM / GPM between BMB and BQT for APAC tbd  4/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Productivity increase potential of Variant management and GPM has to be analyzed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BFl, JKu, KSa 4/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EOL management is done by site 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(Beijing will take over from Europe in October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</a:rPr>
              <a:t>User manuals, CD, packaging, applications  to be handled by each sit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13480" y="244440"/>
            <a:ext cx="14526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4400" y="214956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Keep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39280" y="5927760"/>
            <a:ext cx="43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www.BenQ-Siemen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18524" t="0" r="0" b="0"/>
          <a:stretch/>
        </p:blipFill>
        <p:spPr>
          <a:xfrm>
            <a:off x="1681200" y="2824200"/>
            <a:ext cx="6111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Holger Asmussen</cp:lastModifiedBy>
  <dcterms:modified xsi:type="dcterms:W3CDTF">2006-03-28T12:47:41Z</dcterms:modified>
  <cp:revision>567</cp:revision>
  <dc:subject/>
  <dc:title>All-hands meeting</dc:title>
</cp:coreProperties>
</file>